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598-A09D-4549-8002-DBDFA6C4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B13-3875-4A04-830C-8EB29BC5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6A5-021C-441F-BAB8-95809516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FBA-B53B-4679-8DF8-E47F73E2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80C-7D25-46C0-986E-A31222C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054-0821-424D-92A0-17A4134D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7F7-6F7A-4667-91A0-EDFCA0E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5CA-7062-4CF4-9B57-BD594DE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DCD-8AF4-47D8-9EAB-6C782FD9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5A1-E7DC-4D0C-BA33-7945B5CE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FD0-5ADA-495D-9F60-A525271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96C-2D26-4A25-A5E0-82CCE1C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US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BC9FE555-F18C-4BE0-BFEE-57FF2ADBA135}" type="slidenum"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591984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Reabilitare Strada Cismelei, situata intre strada Dozsa Gyorgy si Joszef Attila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8001000"/>
            <a:ext cx="586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CUMENTATIE DE AVIZARE A LUCRARILOR DE INTERV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Fotografii-007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434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xx</cp:lastModifiedBy>
  <cp:lastPrinted>2010-02-28T18:51:42Z</cp:lastPrinted>
  <dcterms:modified xsi:type="dcterms:W3CDTF">2010-11-19T18:59:46Z</dcterms:modified>
  <cp:revision>178</cp:revision>
  <dc:subject/>
  <dc:title>PowerPoint Presentation</dc:title>
</cp:coreProperties>
</file>